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39960" bIns="3996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54160" y="325440"/>
            <a:ext cx="6351480" cy="833292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598760" y="496800"/>
            <a:ext cx="359244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690560" y="555480"/>
            <a:ext cx="35528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690560" y="568440"/>
            <a:ext cx="3551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92720" y="581040"/>
            <a:ext cx="339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21040" y="920880"/>
            <a:ext cx="28922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21040" y="933480"/>
            <a:ext cx="2890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22120" y="946080"/>
            <a:ext cx="274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9520" y="5297400"/>
            <a:ext cx="4291200" cy="25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680" y="5356080"/>
            <a:ext cx="52354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680" y="5367240"/>
            <a:ext cx="6825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364000"/>
            <a:ext cx="4773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7320" y="5721480"/>
            <a:ext cx="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0920" y="6458040"/>
            <a:ext cx="1746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90200" y="64674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19360" y="6723000"/>
            <a:ext cx="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73480" y="6997680"/>
            <a:ext cx="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57480" y="7543800"/>
            <a:ext cx="276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30480" y="5791320"/>
            <a:ext cx="5828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11520" y="5791320"/>
            <a:ext cx="5558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82720" y="6066000"/>
            <a:ext cx="352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28960" y="5973840"/>
            <a:ext cx="458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 ARMY SOLDIER SUPPORT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82760" y="6553080"/>
            <a:ext cx="42541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RESERVE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ACTIONS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98840" y="70167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1600" y="8359920"/>
            <a:ext cx="18288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43600" y="8359920"/>
            <a:ext cx="14493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92920" y="8369280"/>
            <a:ext cx="124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EP 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019240" y="1954080"/>
          <a:ext cx="2819520" cy="33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9240" y="1954080"/>
                    <a:ext cx="2819520" cy="33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19400" y="7342200"/>
            <a:ext cx="4217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CTICAL EXERCISE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306240" y="8897760"/>
            <a:ext cx="318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44480" y="2502000"/>
            <a:ext cx="536904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92200" y="1247760"/>
            <a:ext cx="4941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What are the first three digits of a cycle number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 The clerks ID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The Julian d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The DSSN numb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.  The unit payroll numb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What TIN do you use to change SGLI coverage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  A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A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A4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 981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A PAS code is composed of what two things?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  Site ID and U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UIC and Julian dat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Site ID and Julian 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 Julian date and unit payroll num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 What document is used to process a name change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  DA Form 41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DA Form 7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Form W-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 SGLV-828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.  A DG03 TIN is processed to do what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  Collect monies for a GP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 Collect monies for a SGLI deb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 Collect monies from a short tou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 Collect monies for a casual/partial pay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10920" y="88977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78520" y="891072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2400" y="2498760"/>
            <a:ext cx="5353200" cy="41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307680" y="88977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55640" y="2494080"/>
            <a:ext cx="5346720" cy="41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307680" y="88977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44480" y="2494080"/>
            <a:ext cx="5369040" cy="41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307680" y="88977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21000" y="7661160"/>
            <a:ext cx="312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47720" y="2532240"/>
            <a:ext cx="5362560" cy="40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307680" y="88977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47720" y="2519280"/>
            <a:ext cx="536256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307680" y="88977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44480" y="2489040"/>
            <a:ext cx="5369040" cy="41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28600" y="8285040"/>
            <a:ext cx="1638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07680" y="8897760"/>
            <a:ext cx="2412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2400" y="2502000"/>
            <a:ext cx="535320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0T17:17:50Z</dcterms:created>
  <dc:creator>Soldier Support Institute</dc:creator>
  <dc:description/>
  <dc:language>en-US</dc:language>
  <cp:lastModifiedBy>Administrator</cp:lastModifiedBy>
  <cp:lastPrinted>2001-12-21T15:34:12Z</cp:lastPrinted>
  <dcterms:modified xsi:type="dcterms:W3CDTF">2004-09-16T18:17:37Z</dcterms:modified>
  <cp:revision>51</cp:revision>
  <dc:subject/>
  <dc:title>No Slide Title</dc:title>
</cp:coreProperties>
</file>